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9611-A9C8-4A6D-8F17-39C085B77F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933F-BD2B-4C1A-8BA6-81119BD1B2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7B49-C0A1-4C1B-ABBB-3ABDECD768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6328-EC7C-4B56-8536-EC56F16B11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F03-D52C-4930-A52F-2058BF0B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097-6C52-47B2-BBC5-8B549995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692-00C1-48DC-AF1A-8E66CCBE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C94-D7E2-4A92-8287-132C7897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F27-98F7-409E-8D1A-1400FACE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751-21C9-48B6-B9A0-0FDC28E9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765-A6ED-4378-86EE-1F861B89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828-1D94-4884-80C0-D8664355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A21-0D1A-48AC-8D68-0C6A70AD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6DF-224C-4512-ADD5-22354F3E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CC6-60FE-4183-B207-6AED9783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CD4-24BA-4968-92BD-C231EFFE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7EF2-CBC5-40AF-9FD7-778B8551749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Quiz about young people in the worl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600"/>
            </a:b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True or fals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ng people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627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Now check the facts from this infographic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924280"/>
            <a:ext cx="48355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ck on this lin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ttp://www.newint.org/features/2012/10/01/n456_infographic.jp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5519880" y="1844640"/>
            <a:ext cx="3311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youth2.jpg"/>
          <p:cNvPicPr/>
          <p:nvPr/>
        </p:nvPicPr>
        <p:blipFill>
          <a:blip r:embed="rId1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Linda Ruas</cp:lastModifiedBy>
  <dcterms:modified xsi:type="dcterms:W3CDTF">2014-05-26T20:29:14Z</dcterms:modified>
  <cp:revision>8</cp:revision>
  <dc:subject/>
  <dc:title>Youth</dc:title>
</cp:coreProperties>
</file>